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786-B88A-4F9E-8A38-6C9C4E27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5F5-2A64-4DDB-987C-968D42E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B9A-2A5A-4198-86B1-4F2D2CBA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0A6-3F7B-4B79-9B1B-CAE07607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2BC-606B-4539-89A1-9A9CB15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A48-6E5A-4C04-9CE4-F195D5E5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FB3-BAF6-4580-8C88-7C417C8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6D3-DDF0-4936-8615-9AA6D09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E52-E469-4558-960F-9636BB1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825-6B96-4EFE-AEC3-BA7C75C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6E4-1718-4495-93B0-B2C9F0B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AF5-EE9A-4458-8C34-314CE87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042-1E8B-4A9E-A863-D07BF35D3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CHURCH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361800"/>
            <a:ext cx="61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 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وقفتْ أقدامُ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أبوابِكِ يا أورشليمُ،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يكِ صَعِد شعبُ الل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َسَبَ دعو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يَحمد اسم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H_123" descr=""/>
          <p:cNvPicPr/>
          <p:nvPr/>
        </p:nvPicPr>
        <p:blipFill>
          <a:blip r:embed="rId1"/>
          <a:stretch/>
        </p:blipFill>
        <p:spPr>
          <a:xfrm>
            <a:off x="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54480" y="501480"/>
            <a:ext cx="530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ناكَ نُصِبَ عرشٌ للحك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رشُ الربِ بين شعبِه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سألِ السلامَ للمؤمن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َسعدِ الذينَ يُحبُّونَ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ND_38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4400" y="425520"/>
            <a:ext cx="5199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 إخوتي وأخِلاَّئ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دعو بالسلامِ والبَرَكة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خيرَ فلنباركِ اللهَ كلُّن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11:16Z</dcterms:created>
  <dc:creator>USER</dc:creator>
  <dc:description/>
  <dc:language>en-US</dc:language>
  <cp:lastModifiedBy>USER</cp:lastModifiedBy>
  <dcterms:modified xsi:type="dcterms:W3CDTF">2003-01-18T09:21:47Z</dcterms:modified>
  <cp:revision>2</cp:revision>
  <dc:subject/>
  <dc:title>PowerPoint Presentation</dc:title>
</cp:coreProperties>
</file>